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1114-4B89-4BF6-B360-B72E98B7F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3310-2B37-4ED0-B657-48EDDDB6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6629-6375-4573-837E-157D4032C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1386-CE79-4574-990C-A06ABD6F6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E773-6CEA-4E65-AC21-E3AD106E8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1B62-B52E-4CF5-9BE0-8AB07434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78F8-ADC6-461C-BB98-0B70CF1D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AAB9-0E0F-4A77-B290-B802D235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D5FFB-5B83-4FC6-8FBA-B4DEF321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1E160-D262-4A3E-BEE3-A0BD4A0C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6D500-BDBE-46BB-9EBD-FAF8D15E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A110-3230-41D9-B828-C700BB78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3CCB-C61E-49FC-8B4F-D0E881C0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AD70-9708-4433-AF96-B8990406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2249B-A540-4311-850B-9D71783B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60BE-B4CC-440A-9EEC-D3E80F36B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6F9E8-7974-4956-A27C-5699ECFF1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E9D7-5456-449E-BE5A-0E7FA7E2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B667-E0F3-4756-B6E2-B329F4BF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1477-BA8A-4E32-880B-03CA13C6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7219-970E-4E24-AAFC-6018E394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607F-C6C2-4FED-B3D6-0D12263A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C552-053B-4491-8ED8-721FA0B5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B7E5-3A54-4805-ADBE-29DEEC05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14C3-96B9-4D04-83F5-6AAB677F1CE9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4D68-FBCE-4658-956B-2D0F750147FD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" Target="slide1.xml"/><Relationship Id="rId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" Target="slide1.xml"/><Relationship Id="rId7" Type="http://schemas.openxmlformats.org/officeDocument/2006/relationships/hyperlink" Target="http://www.priceminister.es/offer/buy/52570238/hp-designjet-110plus-24-impresora-de-gran-formato-impresora.html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85520" y="356760"/>
            <a:ext cx="7343640" cy="808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INDIC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28760" y="1142640"/>
            <a:ext cx="6472080" cy="21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1. SU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2. OFICINA 1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cc"/>
                </a:solidFill>
                <a:uFillTx/>
                <a:latin typeface="Verdana"/>
                <a:hlinkClick r:id="rId3" action="ppaction://hlinksldjump"/>
              </a:rPr>
              <a:t>3. OFICINA 2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cc"/>
                </a:solidFill>
                <a:uFillTx/>
                <a:latin typeface="Verdana"/>
                <a:hlinkClick r:id="rId4" action="ppaction://hlinksldjump"/>
              </a:rPr>
              <a:t>4. OFICINA 3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cc"/>
                </a:solidFill>
                <a:uFillTx/>
                <a:latin typeface="Verdana"/>
                <a:hlinkClick r:id="rId5" action="ppaction://hlinksldjump"/>
              </a:rPr>
              <a:t>5. DESPACHO 1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cc"/>
                </a:solidFill>
                <a:uFillTx/>
                <a:latin typeface="Verdana"/>
                <a:hlinkClick r:id="rId6" action="ppaction://hlinksldjump"/>
              </a:rPr>
              <a:t>6. DESPACHO 2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cc"/>
                </a:solidFill>
                <a:uFillTx/>
                <a:latin typeface="Verdana"/>
                <a:hlinkClick r:id="rId7" action="ppaction://hlinksldjump"/>
              </a:rPr>
              <a:t>7.DESPACHO 3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3 Rectángulo" descr=""/>
          <p:cNvPicPr/>
          <p:nvPr/>
        </p:nvPicPr>
        <p:blipFill>
          <a:blip r:embed="rId8"/>
          <a:stretch/>
        </p:blipFill>
        <p:spPr>
          <a:xfrm>
            <a:off x="1474920" y="-12600"/>
            <a:ext cx="7656480" cy="688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9720" y="285840"/>
            <a:ext cx="7272360" cy="8985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Rockwell"/>
              </a:rPr>
              <a:t>SUM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28400" y="857160"/>
            <a:ext cx="80010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ORDENADOR COMPLETO --  542,88 €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CAMARA Y MICRO --  26,18 €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WEBCAM TRUST CHAT VOIP DELUXE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PROYECTOR 412,85 €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PANTALLA PROYECTOR  -- 70,07 €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TV GRAN TAMAÑO --  1.659,15 €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Picture 4" descr="C:\Documents and Settings\david\Escritorio\TIC DAVID TARDÓN\hp pavilon (ordenadores) sin monitor.jpg"/>
          <p:cNvPicPr/>
          <p:nvPr/>
        </p:nvPicPr>
        <p:blipFill>
          <a:blip r:embed="rId1"/>
          <a:stretch/>
        </p:blipFill>
        <p:spPr>
          <a:xfrm>
            <a:off x="6929280" y="928800"/>
            <a:ext cx="1043280" cy="1042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C:\Documents and Settings\david\Escritorio\TIC DAVID TARDÓN\monitor hp.jpg"/>
          <p:cNvPicPr/>
          <p:nvPr/>
        </p:nvPicPr>
        <p:blipFill>
          <a:blip r:embed="rId2"/>
          <a:stretch/>
        </p:blipFill>
        <p:spPr>
          <a:xfrm>
            <a:off x="5929200" y="928800"/>
            <a:ext cx="1043280" cy="1042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C:\Documents and Settings\david\Escritorio\TIC DAVID TARDÓN\web cam y micro trust.jpg"/>
          <p:cNvPicPr/>
          <p:nvPr/>
        </p:nvPicPr>
        <p:blipFill>
          <a:blip r:embed="rId3"/>
          <a:stretch/>
        </p:blipFill>
        <p:spPr>
          <a:xfrm>
            <a:off x="4143240" y="207180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C:\Documents and Settings\david\Escritorio\TIC DAVID TARDÓN\proyector.jpg"/>
          <p:cNvPicPr/>
          <p:nvPr/>
        </p:nvPicPr>
        <p:blipFill>
          <a:blip r:embed="rId4"/>
          <a:stretch/>
        </p:blipFill>
        <p:spPr>
          <a:xfrm>
            <a:off x="7215120" y="3143160"/>
            <a:ext cx="1095480" cy="10954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C:\Documents and Settings\david\Escritorio\TIC DAVID TARDÓN\Philips  52PFL7404H.jpg"/>
          <p:cNvPicPr/>
          <p:nvPr/>
        </p:nvPicPr>
        <p:blipFill>
          <a:blip r:embed="rId5"/>
          <a:stretch/>
        </p:blipFill>
        <p:spPr>
          <a:xfrm>
            <a:off x="6858000" y="5072040"/>
            <a:ext cx="1623960" cy="1381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C:\Documents and Settings\david\Escritorio\TIC DAVID TARDÓN\pantalla-proyeccion-traulux-delta-mural-180x180.jpg"/>
          <p:cNvPicPr/>
          <p:nvPr/>
        </p:nvPicPr>
        <p:blipFill>
          <a:blip r:embed="rId6"/>
          <a:stretch/>
        </p:blipFill>
        <p:spPr>
          <a:xfrm>
            <a:off x="4786200" y="4071960"/>
            <a:ext cx="1285920" cy="1538280"/>
          </a:xfrm>
          <a:prstGeom prst="rect">
            <a:avLst/>
          </a:prstGeom>
          <a:ln w="0">
            <a:noFill/>
          </a:ln>
        </p:spPr>
      </p:pic>
      <p:sp>
        <p:nvSpPr>
          <p:cNvPr id="167" name="9 CuadroTexto"/>
          <p:cNvSpPr/>
          <p:nvPr/>
        </p:nvSpPr>
        <p:spPr>
          <a:xfrm>
            <a:off x="428760" y="6500880"/>
            <a:ext cx="3286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ffffcc"/>
                </a:solidFill>
                <a:uFillTx/>
                <a:latin typeface="Verdana"/>
                <a:hlinkClick r:id="rId7" action="ppaction://hlinksldjump"/>
              </a:rPr>
              <a:t>ÍNDI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10 Rectángulo"/>
          <p:cNvSpPr/>
          <p:nvPr/>
        </p:nvSpPr>
        <p:spPr>
          <a:xfrm>
            <a:off x="428760" y="5214960"/>
            <a:ext cx="457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antalla proyección traulux delta mural 180x180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11 Rectángulo"/>
          <p:cNvSpPr/>
          <p:nvPr/>
        </p:nvSpPr>
        <p:spPr>
          <a:xfrm>
            <a:off x="500040" y="1714680"/>
            <a:ext cx="45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Ordenador con procesador Intel® Pentium® E5200 2.5Ghz, 4GB memoria, 500GB disco duro, Intel® GMA 3100, sintonizadora de TV, diseño ultra reducido y Vista® Home Premium.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12 Rectángulo"/>
          <p:cNvSpPr/>
          <p:nvPr/>
        </p:nvSpPr>
        <p:spPr>
          <a:xfrm>
            <a:off x="1726920" y="6286680"/>
            <a:ext cx="16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elevisión full hd Philips 52’’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13 Rectángulo"/>
          <p:cNvSpPr/>
          <p:nvPr/>
        </p:nvSpPr>
        <p:spPr>
          <a:xfrm>
            <a:off x="500040" y="414324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ecnología DLP, con resolución XGA. Luminosidad 3000 ansi Lúmenes. Contraste 3000:1.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Rockwell"/>
              </a:rPr>
              <a:t>OFICINA  1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71680" y="2286000"/>
            <a:ext cx="792936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ORDENADOR COMPLETO --  542,99 €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DISCO DURO PORTATIL  --69,58 €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IMPRESORA LASER A4 --  141,61 €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IMPRESORA TINTA A2 --  950,40 €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Picture 4" descr="C:\Documents and Settings\david\Escritorio\TIC DAVID TARDÓN\hp pavilon (ordenadores) sin monitor.jpg"/>
          <p:cNvPicPr/>
          <p:nvPr/>
        </p:nvPicPr>
        <p:blipFill>
          <a:blip r:embed="rId1"/>
          <a:stretch/>
        </p:blipFill>
        <p:spPr>
          <a:xfrm>
            <a:off x="7143840" y="1857240"/>
            <a:ext cx="1257120" cy="1257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C:\Documents and Settings\david\Escritorio\TIC DAVID TARDÓN\monitor hp.jpg"/>
          <p:cNvPicPr/>
          <p:nvPr/>
        </p:nvPicPr>
        <p:blipFill>
          <a:blip r:embed="rId2"/>
          <a:stretch/>
        </p:blipFill>
        <p:spPr>
          <a:xfrm>
            <a:off x="5929200" y="1857240"/>
            <a:ext cx="1257480" cy="1257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C:\Documents and Settings\david\Escritorio\TIC DAVID TARDÓN\disco dyuro portatil.jpg"/>
          <p:cNvPicPr/>
          <p:nvPr/>
        </p:nvPicPr>
        <p:blipFill>
          <a:blip r:embed="rId3"/>
          <a:stretch/>
        </p:blipFill>
        <p:spPr>
          <a:xfrm>
            <a:off x="5357880" y="32860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C:\Documents and Settings\david\Escritorio\TIC DAVID TARDÓN\impresora a4.jpg"/>
          <p:cNvPicPr/>
          <p:nvPr/>
        </p:nvPicPr>
        <p:blipFill>
          <a:blip r:embed="rId4"/>
          <a:stretch/>
        </p:blipFill>
        <p:spPr>
          <a:xfrm>
            <a:off x="7715160" y="4214880"/>
            <a:ext cx="1185840" cy="1185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C:\Documents and Settings\david\Escritorio\TIC DAVID TARDÓN\impresora a2.jpg"/>
          <p:cNvPicPr/>
          <p:nvPr/>
        </p:nvPicPr>
        <p:blipFill>
          <a:blip r:embed="rId5"/>
          <a:stretch/>
        </p:blipFill>
        <p:spPr>
          <a:xfrm>
            <a:off x="5643720" y="5357880"/>
            <a:ext cx="1823760" cy="1330200"/>
          </a:xfrm>
          <a:prstGeom prst="rect">
            <a:avLst/>
          </a:prstGeom>
          <a:ln w="0">
            <a:noFill/>
          </a:ln>
        </p:spPr>
      </p:pic>
      <p:sp>
        <p:nvSpPr>
          <p:cNvPr id="179" name="8 Rectángulo"/>
          <p:cNvSpPr/>
          <p:nvPr/>
        </p:nvSpPr>
        <p:spPr>
          <a:xfrm>
            <a:off x="331200" y="6488280"/>
            <a:ext cx="94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ffffcc"/>
                </a:solidFill>
                <a:uFillTx/>
                <a:latin typeface="Verdana"/>
                <a:hlinkClick r:id="rId6" action="ppaction://hlinksldjump"/>
              </a:rPr>
              <a:t>ÍNDI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9 Rectángulo"/>
          <p:cNvSpPr/>
          <p:nvPr/>
        </p:nvSpPr>
        <p:spPr>
          <a:xfrm>
            <a:off x="1071720" y="2786040"/>
            <a:ext cx="45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Ordenador con procesador Intel® Pentium® E5200 2.5Ghz, 4GB memoria, 500GB disco duro, Intel® GMA 3100, sintonizadora de TV, diseño ultra reducido y Vista® Home Premium.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10 Rectángulo"/>
          <p:cNvSpPr/>
          <p:nvPr/>
        </p:nvSpPr>
        <p:spPr>
          <a:xfrm>
            <a:off x="928800" y="385776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Disco duro portátil Iomega Select con capacidad de 250 GB, USB 2.0, tamaño 2.5", 5400 rpm, memoria caché 8MB y Plug &amp; Play.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11 Rectángulo"/>
          <p:cNvSpPr/>
          <p:nvPr/>
        </p:nvSpPr>
        <p:spPr>
          <a:xfrm>
            <a:off x="928800" y="50007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Impresora láser color </a:t>
            </a: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con resolución 2400x600 dpi, velocidad blanco y negro 16 ppm y velocidad color 4 ppm, memoria 32MB e interfaz USB 2.0.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12 Rectángulo"/>
          <p:cNvSpPr/>
          <p:nvPr/>
        </p:nvSpPr>
        <p:spPr>
          <a:xfrm>
            <a:off x="1000080" y="6072120"/>
            <a:ext cx="45720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HP DesignJet 110Plus - 24" impresora de gran formato - color - chorro de tinta - A1 Plus, ARCH D - 1200 ppp x 600 ppp - hasta 11 ppm - capacidad: 150 hojas - paralelo, USB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Rockwell"/>
              </a:rPr>
              <a:t>OFICINA  2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71680" y="2286000"/>
            <a:ext cx="792936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ORDENADOR COMPLETO --  542,99 €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DISCO DURO PORTATIL  --69,58 €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IMPRESORA LASER A4 --  141,61 €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IMPRESORA TINTA A2 --  950,40 €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Picture 4" descr="C:\Documents and Settings\david\Escritorio\TIC DAVID TARDÓN\hp pavilon (ordenadores) sin monitor.jpg"/>
          <p:cNvPicPr/>
          <p:nvPr/>
        </p:nvPicPr>
        <p:blipFill>
          <a:blip r:embed="rId1"/>
          <a:stretch/>
        </p:blipFill>
        <p:spPr>
          <a:xfrm>
            <a:off x="7143840" y="1857240"/>
            <a:ext cx="1257120" cy="12574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C:\Documents and Settings\david\Escritorio\TIC DAVID TARDÓN\monitor hp.jpg"/>
          <p:cNvPicPr/>
          <p:nvPr/>
        </p:nvPicPr>
        <p:blipFill>
          <a:blip r:embed="rId2"/>
          <a:stretch/>
        </p:blipFill>
        <p:spPr>
          <a:xfrm>
            <a:off x="5929200" y="1857240"/>
            <a:ext cx="1257480" cy="12574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C:\Documents and Settings\david\Escritorio\TIC DAVID TARDÓN\disco dyuro portatil.jpg"/>
          <p:cNvPicPr/>
          <p:nvPr/>
        </p:nvPicPr>
        <p:blipFill>
          <a:blip r:embed="rId3"/>
          <a:stretch/>
        </p:blipFill>
        <p:spPr>
          <a:xfrm>
            <a:off x="5357880" y="32860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C:\Documents and Settings\david\Escritorio\TIC DAVID TARDÓN\impresora a4.jpg"/>
          <p:cNvPicPr/>
          <p:nvPr/>
        </p:nvPicPr>
        <p:blipFill>
          <a:blip r:embed="rId4"/>
          <a:stretch/>
        </p:blipFill>
        <p:spPr>
          <a:xfrm>
            <a:off x="7715160" y="4214880"/>
            <a:ext cx="1185840" cy="11858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C:\Documents and Settings\david\Escritorio\TIC DAVID TARDÓN\impresora a2.jpg"/>
          <p:cNvPicPr/>
          <p:nvPr/>
        </p:nvPicPr>
        <p:blipFill>
          <a:blip r:embed="rId5"/>
          <a:stretch/>
        </p:blipFill>
        <p:spPr>
          <a:xfrm>
            <a:off x="5643720" y="5357880"/>
            <a:ext cx="1823760" cy="1330200"/>
          </a:xfrm>
          <a:prstGeom prst="rect">
            <a:avLst/>
          </a:prstGeom>
          <a:ln w="0">
            <a:noFill/>
          </a:ln>
        </p:spPr>
      </p:pic>
      <p:sp>
        <p:nvSpPr>
          <p:cNvPr id="191" name="8 Rectángulo"/>
          <p:cNvSpPr/>
          <p:nvPr/>
        </p:nvSpPr>
        <p:spPr>
          <a:xfrm>
            <a:off x="331200" y="6488280"/>
            <a:ext cx="94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ffffcc"/>
                </a:solidFill>
                <a:uFillTx/>
                <a:latin typeface="Verdana"/>
                <a:hlinkClick r:id="rId6" action="ppaction://hlinksldjump"/>
              </a:rPr>
              <a:t>ÍNDI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9 Rectángulo"/>
          <p:cNvSpPr/>
          <p:nvPr/>
        </p:nvSpPr>
        <p:spPr>
          <a:xfrm>
            <a:off x="1071720" y="2786040"/>
            <a:ext cx="45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Ordenador con procesador Intel® Pentium® E5200 2.5Ghz, 4GB memoria, 500GB disco duro, Intel® GMA 3100, sintonizadora de TV, diseño ultra reducido y Vista® Home Premium.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10 Rectángulo"/>
          <p:cNvSpPr/>
          <p:nvPr/>
        </p:nvSpPr>
        <p:spPr>
          <a:xfrm>
            <a:off x="928800" y="385776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Disco duro portátil Iomega Select con capacidad de 250 GB, USB 2.0, tamaño 2.5", 5400 rpm, memoria caché 8MB y Plug &amp; Play.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11 Rectángulo"/>
          <p:cNvSpPr/>
          <p:nvPr/>
        </p:nvSpPr>
        <p:spPr>
          <a:xfrm>
            <a:off x="928800" y="50007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Impresora láser color </a:t>
            </a: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con resolución 2400x600 dpi, velocidad blanco y negro 16 ppm y velocidad color 4 ppm, memoria 32MB e interfaz USB 2.0.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12 Rectángulo"/>
          <p:cNvSpPr/>
          <p:nvPr/>
        </p:nvSpPr>
        <p:spPr>
          <a:xfrm>
            <a:off x="1000080" y="6072120"/>
            <a:ext cx="45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HP DesignJet 110Plus - 24" impresora de gran formato - color - chorro de tinta - A1 Plus, ARCH D - 1200 ppp x 600 ppp - hasta 11 ppm - capacidad: 150 hojas - paralelo, USB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Rockwell"/>
              </a:rPr>
              <a:t>OFICINA  3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71680" y="2286000"/>
            <a:ext cx="792936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ORDENADOR MAC DISEÑO --  1251,64 €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DISCO DURO PORTATIL  --69,58 €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IMPRESORA LASER A4 --  141,61 €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IMPRESORA TINTA A2 --  950,40 €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Picture 6" descr="C:\Documents and Settings\david\Escritorio\TIC DAVID TARDÓN\disco dyuro portatil.jpg"/>
          <p:cNvPicPr/>
          <p:nvPr/>
        </p:nvPicPr>
        <p:blipFill>
          <a:blip r:embed="rId1"/>
          <a:stretch/>
        </p:blipFill>
        <p:spPr>
          <a:xfrm>
            <a:off x="5357880" y="32860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C:\Documents and Settings\david\Escritorio\TIC DAVID TARDÓN\impresora a4.jpg"/>
          <p:cNvPicPr/>
          <p:nvPr/>
        </p:nvPicPr>
        <p:blipFill>
          <a:blip r:embed="rId2"/>
          <a:stretch/>
        </p:blipFill>
        <p:spPr>
          <a:xfrm>
            <a:off x="7715160" y="4214880"/>
            <a:ext cx="1185840" cy="1185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C:\Documents and Settings\david\Escritorio\TIC DAVID TARDÓN\impresora a2.jpg"/>
          <p:cNvPicPr/>
          <p:nvPr/>
        </p:nvPicPr>
        <p:blipFill>
          <a:blip r:embed="rId3"/>
          <a:stretch/>
        </p:blipFill>
        <p:spPr>
          <a:xfrm>
            <a:off x="5643720" y="5357880"/>
            <a:ext cx="1823760" cy="1330200"/>
          </a:xfrm>
          <a:prstGeom prst="rect">
            <a:avLst/>
          </a:prstGeom>
          <a:ln w="0">
            <a:noFill/>
          </a:ln>
        </p:spPr>
      </p:pic>
      <p:sp>
        <p:nvSpPr>
          <p:cNvPr id="201" name="8 Rectángulo"/>
          <p:cNvSpPr/>
          <p:nvPr/>
        </p:nvSpPr>
        <p:spPr>
          <a:xfrm>
            <a:off x="45360" y="648828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ÍNDI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10 Rectángulo"/>
          <p:cNvSpPr/>
          <p:nvPr/>
        </p:nvSpPr>
        <p:spPr>
          <a:xfrm>
            <a:off x="928800" y="385776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Disco duro portátil Iomega Select con capacidad de 250 GB, USB 2.0, tamaño 2.5", 5400 rpm, memoria caché 8MB y Plug &amp; Play.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11 Rectángulo"/>
          <p:cNvSpPr/>
          <p:nvPr/>
        </p:nvSpPr>
        <p:spPr>
          <a:xfrm>
            <a:off x="928800" y="50007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Impresora láser color </a:t>
            </a: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con resolución 2400x600 dpi, velocidad blanco y negro 16 ppm y velocidad color 4 ppm, memoria 32MB e interfaz USB 2.0.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12 Rectángulo"/>
          <p:cNvSpPr/>
          <p:nvPr/>
        </p:nvSpPr>
        <p:spPr>
          <a:xfrm>
            <a:off x="1000080" y="6072120"/>
            <a:ext cx="45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HP DesignJet 110Plus - 24" impresora de gran formato - color - chorro de tinta - A1 Plus, ARCH D - 1200 ppp x 600 ppp - hasta 11 ppm - capacidad: 150 hojas - paralelo, USB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6" descr="C:\Documents and Settings\david\Escritorio\TIC DAVID TARDÓN\mac.jpg"/>
          <p:cNvPicPr/>
          <p:nvPr/>
        </p:nvPicPr>
        <p:blipFill>
          <a:blip r:embed="rId4"/>
          <a:stretch/>
        </p:blipFill>
        <p:spPr>
          <a:xfrm>
            <a:off x="6143760" y="1714680"/>
            <a:ext cx="1390680" cy="1303200"/>
          </a:xfrm>
          <a:prstGeom prst="rect">
            <a:avLst/>
          </a:prstGeom>
          <a:ln w="0">
            <a:noFill/>
          </a:ln>
        </p:spPr>
      </p:pic>
      <p:sp>
        <p:nvSpPr>
          <p:cNvPr id="206" name="14 Rectángulo"/>
          <p:cNvSpPr/>
          <p:nvPr/>
        </p:nvSpPr>
        <p:spPr>
          <a:xfrm>
            <a:off x="1000080" y="2786040"/>
            <a:ext cx="45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1,5 pulgadas: 3,06GHz, Core 2 Duo de Intel a 3,06 GHz, 1.920 x 1.080 píxeles de resolución, 4 GB de memoria, Disco duro de 500 GB, SuperDrive de doble capa a 8x, Gráficos GeForce 9400M de NVIDIA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Rockwell"/>
              </a:rPr>
              <a:t>DESPACHO 1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0040" y="1285560"/>
            <a:ext cx="807264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ORDENADOR COMPLETO --  542,99 €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CÁMARA Y MICRO --  26,18 €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WEBCAM TRUST CHAT VOIP DELUXE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PORTÁTIL  --  568,86 €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Picture 4" descr="C:\Documents and Settings\david\Escritorio\TIC DAVID TARDÓN\hp pavilon (ordenadores) sin monitor.jpg"/>
          <p:cNvPicPr/>
          <p:nvPr/>
        </p:nvPicPr>
        <p:blipFill>
          <a:blip r:embed="rId1"/>
          <a:stretch/>
        </p:blipFill>
        <p:spPr>
          <a:xfrm>
            <a:off x="6858000" y="1785960"/>
            <a:ext cx="1257480" cy="1257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C:\Documents and Settings\david\Escritorio\TIC DAVID TARDÓN\monitor hp.jpg"/>
          <p:cNvPicPr/>
          <p:nvPr/>
        </p:nvPicPr>
        <p:blipFill>
          <a:blip r:embed="rId2"/>
          <a:stretch/>
        </p:blipFill>
        <p:spPr>
          <a:xfrm>
            <a:off x="5786280" y="1785960"/>
            <a:ext cx="1257480" cy="1257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C:\Documents and Settings\david\Escritorio\TIC DAVID TARDÓN\web cam y micro trust.jpg"/>
          <p:cNvPicPr/>
          <p:nvPr/>
        </p:nvPicPr>
        <p:blipFill>
          <a:blip r:embed="rId3"/>
          <a:stretch/>
        </p:blipFill>
        <p:spPr>
          <a:xfrm>
            <a:off x="4572000" y="3429000"/>
            <a:ext cx="1114560" cy="11145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C:\Documents and Settings\david\Escritorio\TIC DAVID TARDÓN\product-1451744.jpg"/>
          <p:cNvPicPr/>
          <p:nvPr/>
        </p:nvPicPr>
        <p:blipFill>
          <a:blip r:embed="rId4"/>
          <a:stretch/>
        </p:blipFill>
        <p:spPr>
          <a:xfrm>
            <a:off x="6786720" y="4714920"/>
            <a:ext cx="1753920" cy="1316160"/>
          </a:xfrm>
          <a:prstGeom prst="rect">
            <a:avLst/>
          </a:prstGeom>
          <a:ln w="0">
            <a:noFill/>
          </a:ln>
        </p:spPr>
      </p:pic>
      <p:sp>
        <p:nvSpPr>
          <p:cNvPr id="213" name="7 Rectángulo"/>
          <p:cNvSpPr/>
          <p:nvPr/>
        </p:nvSpPr>
        <p:spPr>
          <a:xfrm>
            <a:off x="259560" y="648828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ÍNDI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8 Rectángulo"/>
          <p:cNvSpPr/>
          <p:nvPr/>
        </p:nvSpPr>
        <p:spPr>
          <a:xfrm>
            <a:off x="928800" y="5286240"/>
            <a:ext cx="592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ffffff"/>
                </a:solidFill>
                <a:latin typeface="Verdana"/>
              </a:rPr>
              <a:t>Portátil - 17.3 pulgadas - Pentium Dual Core, Core 2 Duo - 2000 Mhz - RAM: 3072 MB, 4096 MB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9 Rectángulo"/>
          <p:cNvSpPr/>
          <p:nvPr/>
        </p:nvSpPr>
        <p:spPr>
          <a:xfrm>
            <a:off x="1000080" y="2714760"/>
            <a:ext cx="4572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Ordenador con procesador Intel® Pentium® E5200 2.5Ghz, 4GB memoria, 500GB disco duro, Intel® GMA 3100, sintonizadora de TV, diseño ultra reducido y Vista® Home Premium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Rockwell"/>
              </a:rPr>
              <a:t>DESPACHO 2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00040" y="1285560"/>
            <a:ext cx="807264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ORDENADOR COMPLETO --  542,99 €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CÁMARA Y MICRO --  26,18 €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WEBCAM TRUST CHAT VOIP DELUXE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PORTÁTIL  --  568,86 €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8" name="Picture 4" descr="C:\Documents and Settings\david\Escritorio\TIC DAVID TARDÓN\hp pavilon (ordenadores) sin monitor.jpg"/>
          <p:cNvPicPr/>
          <p:nvPr/>
        </p:nvPicPr>
        <p:blipFill>
          <a:blip r:embed="rId1"/>
          <a:stretch/>
        </p:blipFill>
        <p:spPr>
          <a:xfrm>
            <a:off x="6858000" y="1785960"/>
            <a:ext cx="1257480" cy="1257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C:\Documents and Settings\david\Escritorio\TIC DAVID TARDÓN\monitor hp.jpg"/>
          <p:cNvPicPr/>
          <p:nvPr/>
        </p:nvPicPr>
        <p:blipFill>
          <a:blip r:embed="rId2"/>
          <a:stretch/>
        </p:blipFill>
        <p:spPr>
          <a:xfrm>
            <a:off x="5786280" y="1785960"/>
            <a:ext cx="1257480" cy="1257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C:\Documents and Settings\david\Escritorio\TIC DAVID TARDÓN\web cam y micro trust.jpg"/>
          <p:cNvPicPr/>
          <p:nvPr/>
        </p:nvPicPr>
        <p:blipFill>
          <a:blip r:embed="rId3"/>
          <a:stretch/>
        </p:blipFill>
        <p:spPr>
          <a:xfrm>
            <a:off x="4572000" y="3429000"/>
            <a:ext cx="1114560" cy="11145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C:\Documents and Settings\david\Escritorio\TIC DAVID TARDÓN\product-1451744.jpg"/>
          <p:cNvPicPr/>
          <p:nvPr/>
        </p:nvPicPr>
        <p:blipFill>
          <a:blip r:embed="rId4"/>
          <a:stretch/>
        </p:blipFill>
        <p:spPr>
          <a:xfrm>
            <a:off x="6786720" y="4714920"/>
            <a:ext cx="1753920" cy="1316160"/>
          </a:xfrm>
          <a:prstGeom prst="rect">
            <a:avLst/>
          </a:prstGeom>
          <a:ln w="0">
            <a:noFill/>
          </a:ln>
        </p:spPr>
      </p:pic>
      <p:sp>
        <p:nvSpPr>
          <p:cNvPr id="222" name="7 Rectángulo"/>
          <p:cNvSpPr/>
          <p:nvPr/>
        </p:nvSpPr>
        <p:spPr>
          <a:xfrm>
            <a:off x="259560" y="648828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ÍNDI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8 Rectángulo"/>
          <p:cNvSpPr/>
          <p:nvPr/>
        </p:nvSpPr>
        <p:spPr>
          <a:xfrm>
            <a:off x="928800" y="5286240"/>
            <a:ext cx="592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ffffff"/>
                </a:solidFill>
                <a:latin typeface="Verdana"/>
              </a:rPr>
              <a:t>Portátil - 17.3 pulgadas - Pentium Dual Core, Core 2 Duo - 2000 Mhz - RAM: 3072 MB, 4096 MB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9 Rectángulo"/>
          <p:cNvSpPr/>
          <p:nvPr/>
        </p:nvSpPr>
        <p:spPr>
          <a:xfrm>
            <a:off x="1000080" y="2714760"/>
            <a:ext cx="4572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Ordenador con procesador Intel® Pentium® E5200 2.5Ghz, 4GB memoria, 500GB disco duro, Intel® GMA 3100, sintonizadora de TV, diseño ultra reducido y Vista® Home Premium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Rockwell"/>
              </a:rPr>
              <a:t>DESPACHO 3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0040" y="1285560"/>
            <a:ext cx="807264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ORDENADOR COMPLETO --  542,99 €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CÁMARA Y MICRO --  26,18 €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WEBCAM TRUST CHAT VOIP DELUXE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PORTÁTIL  --  568,86 €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7" name="Picture 4" descr="C:\Documents and Settings\david\Escritorio\TIC DAVID TARDÓN\hp pavilon (ordenadores) sin monitor.jpg"/>
          <p:cNvPicPr/>
          <p:nvPr/>
        </p:nvPicPr>
        <p:blipFill>
          <a:blip r:embed="rId1"/>
          <a:stretch/>
        </p:blipFill>
        <p:spPr>
          <a:xfrm>
            <a:off x="6858000" y="1785960"/>
            <a:ext cx="1257480" cy="12571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C:\Documents and Settings\david\Escritorio\TIC DAVID TARDÓN\monitor hp.jpg"/>
          <p:cNvPicPr/>
          <p:nvPr/>
        </p:nvPicPr>
        <p:blipFill>
          <a:blip r:embed="rId2"/>
          <a:stretch/>
        </p:blipFill>
        <p:spPr>
          <a:xfrm>
            <a:off x="5786280" y="1785960"/>
            <a:ext cx="1257480" cy="12571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C:\Documents and Settings\david\Escritorio\TIC DAVID TARDÓN\web cam y micro trust.jpg"/>
          <p:cNvPicPr/>
          <p:nvPr/>
        </p:nvPicPr>
        <p:blipFill>
          <a:blip r:embed="rId3"/>
          <a:stretch/>
        </p:blipFill>
        <p:spPr>
          <a:xfrm>
            <a:off x="4572000" y="3429000"/>
            <a:ext cx="1114560" cy="11145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C:\Documents and Settings\david\Escritorio\TIC DAVID TARDÓN\product-1451744.jpg"/>
          <p:cNvPicPr/>
          <p:nvPr/>
        </p:nvPicPr>
        <p:blipFill>
          <a:blip r:embed="rId4"/>
          <a:stretch/>
        </p:blipFill>
        <p:spPr>
          <a:xfrm>
            <a:off x="6786720" y="4714920"/>
            <a:ext cx="1753920" cy="1316160"/>
          </a:xfrm>
          <a:prstGeom prst="rect">
            <a:avLst/>
          </a:prstGeom>
          <a:ln w="0">
            <a:noFill/>
          </a:ln>
        </p:spPr>
      </p:pic>
      <p:sp>
        <p:nvSpPr>
          <p:cNvPr id="231" name="7 Rectángulo"/>
          <p:cNvSpPr/>
          <p:nvPr/>
        </p:nvSpPr>
        <p:spPr>
          <a:xfrm>
            <a:off x="259560" y="648828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ÍNDI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8 Rectángulo"/>
          <p:cNvSpPr/>
          <p:nvPr/>
        </p:nvSpPr>
        <p:spPr>
          <a:xfrm>
            <a:off x="928800" y="5286240"/>
            <a:ext cx="592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ffffff"/>
                </a:solidFill>
                <a:latin typeface="Verdana"/>
              </a:rPr>
              <a:t>Portátil - 17.3 pulgadas - Pentium Dual Core, Core 2 Duo - 2000 Mhz - RAM: 3072 MB, 4096 MB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9 Rectángulo"/>
          <p:cNvSpPr/>
          <p:nvPr/>
        </p:nvSpPr>
        <p:spPr>
          <a:xfrm>
            <a:off x="1000080" y="2714760"/>
            <a:ext cx="4572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Ordenador con procesador Intel® Pentium® E5200 2.5Ghz, 4GB memoria, 500GB disco duro, Intel® GMA 3100, sintonizadora de TV, diseño ultra reducido y Vista® Home Premium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10:54:54Z</dcterms:created>
  <dc:creator>Usuario</dc:creator>
  <dc:description/>
  <dc:language>en-US</dc:language>
  <cp:lastModifiedBy>propio</cp:lastModifiedBy>
  <dcterms:modified xsi:type="dcterms:W3CDTF">2009-10-10T21:17:09Z</dcterms:modified>
  <cp:revision>18</cp:revision>
  <dc:subject/>
  <dc:title>SUM</dc:title>
</cp:coreProperties>
</file>